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E286-FF93-4B36-B444-512A46E6F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6649-CC2E-4E6B-9167-53F5711D5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1670-9E43-4FB2-AFA3-A86E35537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9749-AE9F-43DB-8FE0-ABD47CA0E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2E36-1274-4026-B4CF-4DED91431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15A7-785B-4EAA-9CE4-FDF5D2113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9D4E-6BC9-429E-9A9D-969D61AFC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A6A9-AF01-4F80-A997-263334B9A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BC8E-EE02-497D-A4C1-D4F5FA7FE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1AEA-9F92-4DC6-BEC8-C237FF5B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3C0C-5F34-4302-A80E-D930A497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1590-9196-4962-A6B7-1568E1A3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42C5D-D639-45E6-99CC-53D691E240E8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2361960"/>
            <a:ext cx="70102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200" spc="-1" strike="noStrike">
                <a:solidFill>
                  <a:srgbClr val="ffffff"/>
                </a:solidFill>
                <a:latin typeface="Minion"/>
              </a:rPr>
              <a:t>Jerry</a:t>
            </a:r>
            <a:br>
              <a:rPr sz="7200"/>
            </a:br>
            <a:r>
              <a:rPr b="1" lang="en-US" sz="7200" spc="-1" strike="noStrike">
                <a:solidFill>
                  <a:srgbClr val="ffffff"/>
                </a:solidFill>
                <a:latin typeface="Minion"/>
              </a:rPr>
              <a:t>ST</a:t>
            </a:r>
            <a:r>
              <a:rPr b="1" lang="zh-TW" sz="7200" spc="-1" strike="noStrike">
                <a:solidFill>
                  <a:srgbClr val="ffffff"/>
                </a:solidFill>
                <a:latin typeface="Minion"/>
              </a:rPr>
              <a:t> Status</a:t>
            </a:r>
            <a:endParaRPr b="1" lang="en-US" sz="7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4572000" cy="14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Wei Xue K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PL S</a:t>
            </a: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2006-02-</a:t>
            </a: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a0e66"/>
                </a:solidFill>
                <a:latin typeface="Minion"/>
              </a:rPr>
              <a:t>Schedule of ST</a:t>
            </a:r>
            <a:endParaRPr b="1" lang="en-US" sz="3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M1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BEJ&amp;AAL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risk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</a:rPr>
              <a:t>PICS/PIXIT required.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</a:rPr>
              <a:t>Detail primavera plan made.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</a:rPr>
              <a:t>SW Spec and feature list and MMI Spec not release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lnSpc>
                <a:spcPct val="9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</a:rPr>
              <a:t>SW deliver plan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S2/25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AAL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1st test run:3 wks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25-Apr-06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to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15-May-06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HW: A1+ 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25-Apr-06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SW: A1+ SW Freeze</a:t>
            </a:r>
            <a:r>
              <a:rPr b="0" lang="zh-CN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05-Apr-06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2st test: 3 wks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07-Jun-06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to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27-Jun-06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HW: B1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07-Jun-06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SW: S25 SW Freeze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06-Jun-06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Sub run: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Different SW baseline (SW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Bug fix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Risk: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Each milestone required HW and SW deliver on time.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a0e66"/>
                </a:solidFill>
                <a:latin typeface="Minion"/>
              </a:rPr>
              <a:t>Schedule of ST</a:t>
            </a:r>
            <a:endParaRPr b="1" lang="en-US" sz="3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AS and TA schedule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18-Jul-06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TA principl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Delta TA based on SP65 HW and Aries protocol stack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Full TA test based on new B6E RF integrated with SP65 HW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R&amp;TTE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Totally new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GCF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Delta and share result with R&amp;TT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Minio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RF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New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Minio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PS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Delta (SIM, Supplementary Service, Because New UI)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Minio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MMS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New (Because New UI)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lnSpc>
                <a:spcPct val="80000"/>
              </a:lnSpc>
              <a:spcBef>
                <a:spcPts val="224"/>
              </a:spcBef>
              <a:buClr>
                <a:srgbClr val="3a0e66"/>
              </a:buClr>
              <a:buFont typeface="Minio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Field Trail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</a:rPr>
              <a:t>New (Because New UI, should be discussed more)</a:t>
            </a:r>
            <a:endParaRPr b="0" lang="en-US" sz="9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FCC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E/A team decide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</a:rPr>
              <a:t>Test LAB and notified body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BEJ 7layers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test lab 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CETECOMM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</a:rPr>
              <a:t>EUT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RF and Protocol test result on B1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B2 HW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TA freeze SW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TA schedul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17-Jul-06 to 07-Sep-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Minio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</a:rPr>
              <a:t>Test and report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07-Sep-06 to 14-Sep-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Minio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</a:rPr>
              <a:t>Application Certificate work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15-Sep-06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3a0e66"/>
              </a:buClr>
              <a:buFont typeface="Minio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</a:rPr>
              <a:t>Get certification</a:t>
            </a: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</a:rPr>
              <a:t>Risk: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</a:rPr>
              <a:t>Latest GCF cases status changed and updated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a0e66"/>
                </a:solidFill>
                <a:latin typeface="Minion"/>
              </a:rPr>
              <a:t>Schedule of ST</a:t>
            </a:r>
            <a:endParaRPr b="1" lang="en-US" sz="3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S3-DS-S4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TA test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Customer related test 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Milestone test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Working Spli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AAL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All HW related and PS related test Before S25 on A1+ and B1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TA RF and PS test on B1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Prototype support before S25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&lt;10 Engineer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BEJ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All SW related test for whole lifecycl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All HW related and PS related test between S25 and S4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Delta test on B2 for TA used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All TA paper and planning and certificate work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Prototype support after S25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&lt;20 Engineer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Xinbing Mao</dc:creator>
  <dc:description/>
  <dc:language>en-US</dc:language>
  <cp:lastModifiedBy>Admin</cp:lastModifiedBy>
  <dcterms:modified xsi:type="dcterms:W3CDTF">2006-02-15T00:34:24Z</dcterms:modified>
  <cp:revision>182</cp:revision>
  <dc:subject/>
  <dc:title>PowerPoint</dc:title>
</cp:coreProperties>
</file>